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873B6-4AA8-4B9A-A490-5DC610C7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A598E-E969-4FE6-983C-7AFAF624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DC9C4-4DBC-4323-8BD9-E7595923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8BE8B-1977-463E-A8B2-CC33E7F6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6D05-1997-4173-96EB-8428FB00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DDC9-626E-48FC-BB60-A9032A84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4145-8EB1-4DE2-8928-A961DB4F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CDF2-1741-4DD0-9E72-DB89AB2F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96F0-AEC7-4808-8BF1-86CB7178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A47B-BE01-4C13-BDED-B63E545C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45C0-6F96-4AEF-89E7-27B77189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5CF4D-5C65-4A5B-9ADF-BCA0AE6E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D661-7A60-40F8-8F20-BFE116F4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C841-90DA-482C-871C-DA69B6F8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F6E83-CFBD-4550-BD9C-C639772B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D9989-0310-46C5-9BA2-DA5E56DAA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ECC6-CEED-4FED-A28A-A60C8624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4072B-DD03-43F2-99AE-93C77173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C82DB-3A87-47BE-9BDF-5BEC2E675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0A09C-C254-4C11-94E4-164B5C85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DFCB1-366D-43F1-95DE-108745CC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D27E3-666B-4407-99B8-18F8BA41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59395-65D7-4BF8-BA05-08A4CDB9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404AE-14CF-4106-B40F-611AD0A6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0C48-FF42-414E-A411-F53B067A08B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EACA-7AD1-4E3E-9B05-4772C487C44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1981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in the World is Cinderella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ying cultures around the world using the classic fairy tale of Cindere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Essential Ques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what ways does literature reflect the   culture of its countr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Geography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the help of Cinderella, you will learn the geography of this country and how it affects its cul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5146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ultur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s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ver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18:06:28Z</dcterms:created>
  <dc:creator>Eldred Central School</dc:creator>
  <dc:description/>
  <dc:language>en-US</dc:language>
  <cp:lastModifiedBy>Eldred Central School</cp:lastModifiedBy>
  <dcterms:modified xsi:type="dcterms:W3CDTF">2010-06-30T18:28:26Z</dcterms:modified>
  <cp:revision>2</cp:revision>
  <dc:subject/>
  <dc:title>Where in the World is Cinderella?</dc:title>
</cp:coreProperties>
</file>